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7488-410D-4DF3-9AC9-C49178E15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CC39-54B4-4CF2-B2DD-8A9F8E322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537C-17AC-41B1-9650-C805BC03B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C9D5-F64C-4571-9192-640F64236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3DF1-079D-4BAA-9AE8-3CE98FBDD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7378-19AF-4232-B792-0F7D49EA7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D535-718F-4DD6-86F7-EB419F431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CCD3-44F7-4E39-B10C-70B2D9014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6914-3A4A-4A35-AF85-42557FB21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1AC9-9B22-4054-A4AD-CFA63DC81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D662-21D7-4FF1-AE68-2D0B479CD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E93F-E401-4ECE-B1DE-CD4FA21D3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91BDA-8C46-41B4-AD0B-FF1BA0BE73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304920"/>
            <a:ext cx="32004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rt on fiscal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60948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828800" y="1219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1219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g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029200" y="1219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of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1219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aining ste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304920"/>
            <a:ext cx="32004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60948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91440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828800" y="1523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029200" y="1523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1523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828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029200" y="1828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1828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828800" y="2133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029200" y="2133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133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828800" y="2438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029200" y="2438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2438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8800" y="2743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029200" y="2743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2743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828800" y="3048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029200" y="3048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3048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828800" y="3352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029200" y="3352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3352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828800" y="3657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029200" y="3657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3657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828800" y="3962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029200" y="3962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029200" y="9144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8600" y="1523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8600" y="1828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8600" y="2133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2438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8600" y="2743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048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28600" y="3352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8600" y="3657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28600" y="3962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4876920"/>
            <a:ext cx="32004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rt on fiscal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518148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828800" y="5791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5791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g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5791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of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429000" y="5791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aining ste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429000" y="4876920"/>
            <a:ext cx="32004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429000" y="518148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el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828800" y="548640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6095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9200" y="6095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29000" y="6095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28800" y="6400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029200" y="6400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429000" y="6400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828800" y="6705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029200" y="6705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429000" y="6705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828800" y="7010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029200" y="7010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429000" y="7010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029200" y="7315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828800" y="7620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029200" y="7620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429000" y="7620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828800" y="7924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7924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429000" y="7924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828800" y="8229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8229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29000" y="8229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828800" y="8534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029200" y="8534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429000" y="8534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029200" y="54864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8600" y="6095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8600" y="6400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" y="6705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" y="7010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" y="7315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8600" y="7620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8600" y="7924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" y="8229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8534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3962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429000" y="7315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828800" y="7315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228600" y="4876920"/>
            <a:ext cx="32004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rt on fiscal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28600" y="518148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828800" y="5791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28600" y="5791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g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029200" y="5791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of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429000" y="5791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aining ste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429000" y="4876920"/>
            <a:ext cx="32004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429000" y="518148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re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828800" y="548640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828800" y="6095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29200" y="6095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429000" y="6095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029200" y="6400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828800" y="6705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029200" y="6705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429000" y="6705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828800" y="7010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029200" y="7010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7010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828800" y="7315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029200" y="7315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429000" y="7315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7620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029200" y="7620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429000" y="7620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28800" y="7924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029200" y="7924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29000" y="7924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828800" y="8229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029200" y="8229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8229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8534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029200" y="8534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429000" y="8534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029200" y="54864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28600" y="6095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28600" y="6400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28600" y="6705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28600" y="7010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28600" y="7315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28600" y="7620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28600" y="7924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" y="8229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8600" y="8534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28600" y="304920"/>
            <a:ext cx="32004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rt on fiscal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28600" y="60948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828800" y="1219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8600" y="1219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g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1219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of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429000" y="1219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aining ste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429000" y="304920"/>
            <a:ext cx="32004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429000" y="60948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au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828800" y="91440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029200" y="1523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828800" y="1828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029200" y="1828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429000" y="1828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2133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029200" y="2133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429000" y="2133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828800" y="2438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029200" y="2438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429000" y="2438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828800" y="2743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029200" y="2743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429000" y="2743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828800" y="3048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029200" y="3048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429000" y="3048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828800" y="3352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029200" y="3352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429000" y="3352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828800" y="3657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029200" y="3657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429000" y="3657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828800" y="3962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029200" y="3962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29000" y="3962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029200" y="9144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28600" y="1523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" y="1828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28600" y="2133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8600" y="2438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28600" y="2743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" y="3048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28600" y="3352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28600" y="3657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28600" y="3962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429000" y="6400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828800" y="6400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429000" y="1523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828800" y="1523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1T15:28:50Z</dcterms:created>
  <dc:creator>x</dc:creator>
  <dc:description/>
  <dc:language>en-US</dc:language>
  <cp:lastModifiedBy>jj</cp:lastModifiedBy>
  <dcterms:modified xsi:type="dcterms:W3CDTF">2009-09-30T09:42:24Z</dcterms:modified>
  <cp:revision>7</cp:revision>
  <dc:subject/>
  <dc:title>PowerPoint-presentatie</dc:title>
</cp:coreProperties>
</file>