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4102-1E09-4819-9571-EBCD4E9D5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F429-7599-426A-8D42-AFC38385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49DD-ECB2-4941-9315-F9890BCE8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E838-0976-46EB-AD10-DA495EF67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0380-0627-427E-8E0F-7C72F990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DE5C-7CD1-4AA7-8CAC-55BF9A96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491A-4F73-4D30-9568-E128A439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7377-A0A0-49FC-8207-5E091388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0FC9-ED42-4D2D-99ED-3EC45FCD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E09D-EB55-4CD2-A7CA-8639E514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BC97-FAC0-4645-9625-B7C5F0A4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EBF3-C0B8-4D48-9EA7-A8018B1C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5378-9558-4629-8310-6184A47AD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684360"/>
            <a:ext cx="617220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er iets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schien is er iets besloten dat je niet kunt z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 is er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eft iedereen hetzelfde beeld va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e heeft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iemand of een groep, gaat iedereen mee i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neer werd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 het van te voren al duidelij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e werd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t pro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arom werd di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ar werd rekening mee gehoude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366840"/>
            <a:ext cx="6172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e besluitv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8-03-02T09:02:43Z</dcterms:modified>
  <cp:revision>86</cp:revision>
  <dc:subject/>
  <dc:title>Spelregels IT-governance g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3606902</vt:r8>
  </property>
  <property fmtid="{D5CDD505-2E9C-101B-9397-08002B2CF9AE}" pid="3" name="_AuthorEmail">
    <vt:lpwstr>J.vanBeele@meavita.nl</vt:lpwstr>
  </property>
  <property fmtid="{D5CDD505-2E9C-101B-9397-08002B2CF9AE}" pid="4" name="_AuthorEmailDisplayName">
    <vt:lpwstr>Jeroen van Beele</vt:lpwstr>
  </property>
  <property fmtid="{D5CDD505-2E9C-101B-9397-08002B2CF9AE}" pid="5" name="_EmailSubject">
    <vt:lpwstr>gg vr 13</vt:lpwstr>
  </property>
  <property fmtid="{D5CDD505-2E9C-101B-9397-08002B2CF9AE}" pid="6" name="_PreviousAdHocReviewCycleID">
    <vt:r8>1283275073</vt:r8>
  </property>
</Properties>
</file>