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9A9-A6EA-47EF-8669-597E8BA67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9A54-4804-4697-8B31-111D79233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5428-E8B4-442B-90A5-DC2C30FC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85C-CB02-4B5D-AF4A-294E5495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6DEE-0B3E-47F3-98E0-FB2B9251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5304-13D4-46C9-A768-5EFE5B4DE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88DE-EB70-403A-B556-34B3C980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A080-5D80-4908-B9AD-9ADE18A4F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239-07A5-4893-983B-68975533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AEA3-8A68-4576-A1C2-8D61A826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C104-C7C6-49E5-B1F7-82E86C86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E7E5-34EF-408F-B61A-179ACEEC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87F7-AD53-4056-8711-8179C4B17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3808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to 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9907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start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600200"/>
            <a:ext cx="1371600" cy="426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58672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aint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990720"/>
            <a:ext cx="27432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jec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88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e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off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anticip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new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16002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004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200400" y="34290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0400" y="40384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46483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00400" y="525780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8672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day r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572000" y="380880"/>
            <a:ext cx="4114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99072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1600200"/>
            <a:ext cx="41148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#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execu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436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9436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2209680"/>
            <a:ext cx="13716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15200" y="2819520"/>
            <a:ext cx="13716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15200" y="3429000"/>
            <a:ext cx="137160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772400" y="5943600"/>
            <a:ext cx="457200" cy="45720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808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5867280"/>
            <a:ext cx="27432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0T08:13:37Z</dcterms:created>
  <dc:creator>jj</dc:creator>
  <dc:description/>
  <dc:language>en-US</dc:language>
  <cp:lastModifiedBy>jj</cp:lastModifiedBy>
  <dcterms:modified xsi:type="dcterms:W3CDTF">2009-07-10T08:13:55Z</dcterms:modified>
  <cp:revision>1</cp:revision>
  <dc:subject/>
  <dc:title>PowerPoint-presentatie</dc:title>
</cp:coreProperties>
</file>