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A239-9531-4E7E-9A13-BC9E6FB5C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356F-E68E-4189-81B5-E72AF360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F6EE-536D-4A1B-BD47-5F1267FD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72A9-07A2-4FD4-960D-BB30B3FF3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FAD9-29BF-4C6E-AAD6-B283B80A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62B-B5CD-4ECC-9A5D-E7D059E94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17E-856D-4573-B02B-C97451AC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35A6-0683-4088-B5A6-EFBBAFD7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90C8-FF9A-45E9-B6E5-AE2813C8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539-DB0E-4830-B828-75400533E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DFC-874E-4A77-9E8F-9A696F2A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1FB-D476-4661-80B2-0CFCDFFE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40B7-B160-44FC-B543-55FE1EFA3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target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build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new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igrate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under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renew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 at the end of their life cyc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0000"/>
                </a:solidFill>
                <a:latin typeface="Times New Roman"/>
              </a:rPr>
              <a:t>maintain</a:t>
            </a:r>
            <a:r>
              <a:rPr b="0" lang="nl-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isting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8:48Z</dcterms:created>
  <dc:creator>jj</dc:creator>
  <dc:description/>
  <dc:language>en-US</dc:language>
  <cp:lastModifiedBy>jj</cp:lastModifiedBy>
  <dcterms:modified xsi:type="dcterms:W3CDTF">2009-07-10T08:19:01Z</dcterms:modified>
  <cp:revision>1</cp:revision>
  <dc:subject/>
  <dc:title>PowerPoint-presentatie</dc:title>
</cp:coreProperties>
</file>