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90D-5B12-49A2-9BE0-408B9B3C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2AD1-4ED5-429A-A2D3-8483D2397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DBDA-80C6-4FA8-BB05-51B67D52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2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5480" y="213336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2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5480" y="5284440"/>
            <a:ext cx="198648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0264-50B1-470F-A55D-646DDF5C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31D4-1D2E-4715-B2D3-09CE411B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6FE-2269-4AC4-A922-E7854F3B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059B-E945-4554-8B33-F0C2EA71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C80C-A8DD-4DC0-9981-6B1050EBC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66480"/>
            <a:ext cx="6170400" cy="705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D8A8-EE03-4AD2-AA57-DDB40EF2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725C-A941-47D2-AD9E-901B60D8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960" y="528444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911-9628-4B8A-9F6D-A6262529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960" y="2133360"/>
            <a:ext cx="301104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284440"/>
            <a:ext cx="6170400" cy="287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4CB7-E0A5-4CBD-B271-7BF0A7B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617040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133360"/>
            <a:ext cx="6170400" cy="603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3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080"/>
            <a:ext cx="217008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26080"/>
            <a:ext cx="1598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E19B3B-AE07-40B5-8B9B-2577AF9A2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, 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build a new system for a market segment in which the bu is not yet present.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 bu starts a project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a round coloured pawn, representing the project's target, up side down in the segment row of the project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placing black square pawns on project phases not to be executed as follow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de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offens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niticipa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bui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architect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sig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integ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rganization can run no more than 5 [6] projects simultaneous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 by placing the required number of round silver pawn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representing development capacity (price: 1 per piece), in the phases to be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ases have to be executed in order starting fro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defensive: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offensive: desig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2 phases starting from architec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renewal: 2 phases starting from bui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department has 11 [15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its of development 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maintain a system by placing a round gold pawn, representing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effor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ice: the number of systems not under architecture (or / 2, depending on the parametrisation for maintenance chosen)), on the system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14360" y="533520"/>
            <a:ext cx="644364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without maintenance effort on top of it is removed from the application portfol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 system lying in a blue row (at the end of it's life cycle) is removed from the application portfolio unless a renewal project has been delivered for this system (and the system is maintained) this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when a system has been removed from the application portfolio the systems to the right in the same market segment (if any) shift 1 column to the 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all systems move down 1 row and the maintenance efforts are returned to the maintenance are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no phases have been executed for a project the last completed phase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if a project has no completed phases left the project is kill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DejaVu Sans"/>
              </a:rPr>
              <a:t>completed phases are replaced by square coloured paw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w</a:t>
            </a:r>
            <a:r>
              <a:rPr b="0" lang="nl-NL" sz="1000" spc="-1" strike="noStrike">
                <a:solidFill>
                  <a:srgbClr val="000000"/>
                </a:solidFill>
                <a:latin typeface="Arial"/>
                <a:ea typeface="DejaVu Sans"/>
              </a:rPr>
              <a:t>hen 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ll phases have been completed the project is delivered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build: a square coloroud pawn is placed in it's corresponding market segment in the 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  <a:ea typeface="DejaVu Sans"/>
              </a:rPr>
              <a:t>application portfolio a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1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 row of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  <a:ea typeface="DejaVu Sans"/>
              </a:rPr>
              <a:t>defensive or offensiv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: the top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4" marL="20559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»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anticipative: the bottom half of the market seg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DejaVu Sans"/>
              </a:rPr>
              <a:t>the first colum (from the left) that has not been taken by another b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renewal: the system is moved to the 1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  <a:ea typeface="DejaVu Sans"/>
              </a:rPr>
              <a:t>st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 row in the same column of it’s half of it's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migration: the system is moved from the top half to the bottom half of it's market segment in the corresponding row and the same colum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DejaVu Sans"/>
              </a:rPr>
              <a:t>the market share a bu gains depens 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number of bu's present on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DejaVu Sans"/>
              </a:rPr>
              <a:t>the order in which the bu penetrated that market seg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15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of paw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d phase o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square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 to b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, yellow, blue or green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lver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ld round paw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enanc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3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166840" y="5264280"/>
          <a:ext cx="2667240" cy="13651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1240"/>
              </a:tblGrid>
              <a:tr h="227160">
                <a:tc gridSpan="2" rowSpan="2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71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68280">
                <a:tc rowSpan="3"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0440" bIns="46800" anchor="ctr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jj</cp:lastModifiedBy>
  <dcterms:modified xsi:type="dcterms:W3CDTF">2009-09-30T10:23:16Z</dcterms:modified>
  <cp:revision>322</cp:revision>
  <dc:subject/>
  <dc:title>Spelregels IT-governance game</dc:title>
</cp:coreProperties>
</file>