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710363" cy="9834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2446-4A1C-44FF-98A8-A4F4FDB9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9A10-DDA1-437E-9A26-21C6A8F19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4966-DB46-447B-A25A-45B848B2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ECE1-B871-435D-AF5C-E020C72D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BB10-90DF-4981-BBA3-1BE6BD86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B184-7D79-428E-B90C-DF4759533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A3E-7117-4549-9F68-38E50A91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329-31D6-4DA2-8A22-A74190EE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33A9-A3EB-4BC7-9690-BDCAC7786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0C8F-13F4-4283-A4F3-D746907A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1730-564E-4D38-B4EF-43ECCD60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00F-EF5E-4A4C-9D9A-D2382EA6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B5307-B581-408A-BDD2-79F54431FFB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14360" y="533520"/>
            <a:ext cx="617220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yers are divided into 3 [4]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am represents a business unit (b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u's together form one organ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me is played in rounds (fiscal years) consisting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ximately 10 min playing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ard of directors has decided to gain as much market share as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at end each of the bu's has for target to maximise it's individual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each fiscal year the bu with the largest market share wears the </a:t>
            </a: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orange ja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ner of the game is the bu with the largest market share by the end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gain market share in a market segment by building an IT-system for tha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 in either of 3 sp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ens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ticipative (under architec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s of the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market segment generates a turn over of 6 shared among the bu's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first mover principle) the earlier a bu is present in a market segment the larger it's market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 under archite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ers maintenance co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mor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-governance game is a game of balance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 betw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peed (market sha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architecture (maintenance co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33520" y="6248520"/>
          <a:ext cx="2666880" cy="1377720"/>
        </p:xfrm>
        <a:graphic>
          <a:graphicData uri="http://schemas.openxmlformats.org/drawingml/2006/table">
            <a:tbl>
              <a:tblPr/>
              <a:tblGrid>
                <a:gridCol w="701640"/>
                <a:gridCol w="701640"/>
                <a:gridCol w="425520"/>
                <a:gridCol w="457200"/>
                <a:gridCol w="380880"/>
              </a:tblGrid>
              <a:tr h="27252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et sh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32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2858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bu'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19040" y="533520"/>
            <a:ext cx="6438960" cy="84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arting 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u can start one or more IT projects by asking the IT-manager to do so on it's beha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hree kinds of IT proje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a new system for a market segment in which the bu is not yet present, the bu can choose one from three speeds availab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fensive (3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ffensive (4 phase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ticipative (5 phases, under architectur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grate an existing system under architecture to reduce maintenance costs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new an existing system to begin a new life cycle (2 phas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ing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a bu can execute per project up to 3 ph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invmestent depends on the type of project and the number o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es execu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ee the price list of the IT-manag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can be put on hold (ie temporarily not execut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 extr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s needed to complete the proj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if the project needs as many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ases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o complete as originally the project is killed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uring the next 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aining app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system on the market board has to be maint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5 fiscal years a system reaches it's end of lif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at case besides maintenance a renewal project has to be delivered for tha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well, again otherwise the system will be removed from the market board during the next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fiscal year is followed by an evaluation in w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ach bu receives from the IT-manager a report on the status of it's projects and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ank pays the bu's their turn o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1000" spc="-1" strike="noStrike">
                <a:solidFill>
                  <a:srgbClr val="ff6600"/>
                </a:solidFill>
                <a:latin typeface="Arial"/>
              </a:rPr>
              <a:t>orange jacke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handed over to the leading b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IT-manager announces the maintenance costs for the next fiscal y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600" y="152280"/>
            <a:ext cx="6286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Arial"/>
              </a:rPr>
              <a:t>IT-governance game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part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9-02-17T11:22:03Z</dcterms:modified>
  <cp:revision>327</cp:revision>
  <dc:subject/>
  <dc:title>Spelregels IT-governance game</dc:title>
</cp:coreProperties>
</file>