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214B-1E13-45EA-81A8-1B5D2C001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0AF4-4436-4121-854C-F5AC8304F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CDDC-7756-4045-9B64-D713D60D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974-92FC-40F1-9EFC-A41719D2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594-0A56-400F-ACA2-382052EC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1E03-C370-4222-AF08-827EA0BF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9A21-AB54-44A8-A5E5-3F1B06B34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682D-7ABE-4EBA-9654-FC779848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41BD-4051-4E5D-A7A9-52349E31B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FF27-DCF0-426A-AEF9-673549850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B1FA-538E-4FFE-AAE8-0DEF12F2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91EE-3C9E-44E3-ACB8-3EC99ADE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F4CA4-2E60-425A-AC38-0E5E1A42A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x</cp:lastModifiedBy>
  <dcterms:modified xsi:type="dcterms:W3CDTF">2008-05-02T07:20:35Z</dcterms:modified>
  <cp:revision>7</cp:revision>
  <dc:subject/>
  <dc:title>PowerPoint-presentatie</dc:title>
</cp:coreProperties>
</file>