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843C-614E-40CD-AF01-EC709F0F8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22B1-ABB2-4973-8FA2-6BFB3356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13E8-6143-455B-9A9A-AE5A3AA87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E1AF-6180-4937-9A7D-0F29259A9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273A-8C35-4C1A-B18B-1B98DF88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86DC-41AB-4828-90F6-907C9ED5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7752-222C-4DE2-94EE-1FE8BA4A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A4C0-AE20-4442-9B67-2B41B156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E7E-269B-441B-B7B1-3BE08007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7DDA-7E92-4EF8-A309-D84BB262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9CA0-B7C2-4BCE-BC67-7CA1D8EB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ABC0-DD25-4D17-9509-D22CAC173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2D96-DA50-41F4-8E9A-B37164568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Arial"/>
              </a:rPr>
              <a:t>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2286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288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0292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29000" y="5791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429000" y="4876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5181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28800" y="5486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4290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292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4290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8288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88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292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290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8288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292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5486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6095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6705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28600" y="7010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8600" y="7315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7620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924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8229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8534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on fiscal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8288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of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12193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aining ste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29000" y="304920"/>
            <a:ext cx="32004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429000" y="60948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au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28800" y="914400"/>
            <a:ext cx="32004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0292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290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4290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288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290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288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0292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4290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8288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0292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288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0292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4290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8288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0292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29200" y="9144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86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828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21337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24382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8600" y="27432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" y="30481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33526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36576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3962520"/>
            <a:ext cx="1600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290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640080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828800" y="1523880"/>
            <a:ext cx="1600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5:28:50Z</dcterms:created>
  <dc:creator>x</dc:creator>
  <dc:description/>
  <dc:language>en-US</dc:language>
  <cp:lastModifiedBy>jj</cp:lastModifiedBy>
  <dcterms:modified xsi:type="dcterms:W3CDTF">2009-09-30T09:42:24Z</dcterms:modified>
  <cp:revision>7</cp:revision>
  <dc:subject/>
  <dc:title>PowerPoint-presentatie</dc:title>
</cp:coreProperties>
</file>