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57BA-FA4D-421B-946D-D662BA896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9F2D-55E5-43C1-B275-7357BCFCB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A171-7C42-4B11-81DC-21811053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F8A2-21EF-41A8-A8E9-E46ED628D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5F82-8B55-4F74-9BD5-0BD73F3B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F6E7-6BE7-4970-AF61-F923F850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EFD3-0378-42AE-8D25-785159A3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3663-3563-4D26-9282-7D42B5E6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CEA-B8F0-4C36-969B-6293A37A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C81A-0F6F-49DA-AEB1-18EFA076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2007-0E6F-4678-B81B-2895C5B4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99BE-9D7A-4FBD-93C0-D0AAD02D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CAFF-8B1D-4930-AAA8-A72B88719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3080" y="684360"/>
            <a:ext cx="6172200" cy="74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er iets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sschien is er iets besloten dat je niet kunt zi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 is er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eft iedereen hetzelfde beeld va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e heeft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iemand of een groep, gaat iedereen mee in het beslui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neer werd da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s het van te voren al duidelijk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e werd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t pro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arom werd dit beslo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ar werd rekening mee gehouden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3080" y="366840"/>
            <a:ext cx="6172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ie besluitv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1T09:06:22Z</dcterms:created>
  <dc:creator>x</dc:creator>
  <dc:description/>
  <dc:language>en-US</dc:language>
  <cp:lastModifiedBy>x</cp:lastModifiedBy>
  <dcterms:modified xsi:type="dcterms:W3CDTF">2008-03-02T09:02:43Z</dcterms:modified>
  <cp:revision>86</cp:revision>
  <dc:subject/>
  <dc:title>Spelregels IT-governance g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403606902</vt:r8>
  </property>
  <property fmtid="{D5CDD505-2E9C-101B-9397-08002B2CF9AE}" pid="3" name="_AuthorEmail">
    <vt:lpwstr>J.vanBeele@meavita.nl</vt:lpwstr>
  </property>
  <property fmtid="{D5CDD505-2E9C-101B-9397-08002B2CF9AE}" pid="4" name="_AuthorEmailDisplayName">
    <vt:lpwstr>Jeroen van Beele</vt:lpwstr>
  </property>
  <property fmtid="{D5CDD505-2E9C-101B-9397-08002B2CF9AE}" pid="5" name="_EmailSubject">
    <vt:lpwstr>gg vr 13</vt:lpwstr>
  </property>
  <property fmtid="{D5CDD505-2E9C-101B-9397-08002B2CF9AE}" pid="6" name="_PreviousAdHocReviewCycleID">
    <vt:r8>1283275073</vt:r8>
  </property>
</Properties>
</file>