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E6F9-4F8F-46B4-A3F7-4FC05E32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47F8-E16E-488A-92FB-046F7988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524A-2EB8-4036-B5C1-B557EABA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1991-2341-4A75-B4EC-E98D10B5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A407-5572-4C9C-811F-3052CBAA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651F-84FB-40C5-B1E0-CFD7D979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E2A7-89E0-47F0-8C17-609D6845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1D7A-8D7D-47F6-A61B-5814AD56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335A-0BD4-4664-8577-985AD56B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C8A8-8EB6-4791-8F0E-BFD370E5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198-6D12-464F-810D-2867C6FB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33B5-19BC-4095-BEDF-2B56BC89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3F4D-2C11-4610-A57E-43A5810F9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targ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build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new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igrat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und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renew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at the end of their lif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aintai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8:48Z</dcterms:created>
  <dc:creator>jj</dc:creator>
  <dc:description/>
  <dc:language>en-US</dc:language>
  <cp:lastModifiedBy>jj</cp:lastModifiedBy>
  <dcterms:modified xsi:type="dcterms:W3CDTF">2009-07-10T08:19:01Z</dcterms:modified>
  <cp:revision>1</cp:revision>
  <dc:subject/>
  <dc:title>PowerPoint-presentatie</dc:title>
</cp:coreProperties>
</file>