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6710363" cy="98345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DDD5B-8B5D-4303-AB80-18B28AFEA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3080" y="366480"/>
            <a:ext cx="6170400" cy="15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3080" y="2133360"/>
            <a:ext cx="6170400" cy="287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3080" y="5284440"/>
            <a:ext cx="6170400" cy="287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81350-9F1E-4AF9-831B-24E7FAD02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3080" y="366480"/>
            <a:ext cx="6170400" cy="15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3080" y="2133360"/>
            <a:ext cx="3011040" cy="287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4960" y="2133360"/>
            <a:ext cx="3011040" cy="287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3080" y="5284440"/>
            <a:ext cx="3011040" cy="287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4960" y="5284440"/>
            <a:ext cx="3011040" cy="287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98DCD-2009-41F7-8ADA-E90DC1B3A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3080" y="366480"/>
            <a:ext cx="6170400" cy="15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3080" y="2133360"/>
            <a:ext cx="1986480" cy="287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280" y="2133360"/>
            <a:ext cx="1986480" cy="287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5480" y="2133360"/>
            <a:ext cx="1986480" cy="287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3080" y="5284440"/>
            <a:ext cx="1986480" cy="287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280" y="5284440"/>
            <a:ext cx="1986480" cy="287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5480" y="5284440"/>
            <a:ext cx="1986480" cy="287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DE09C-89AC-437D-8DE4-82CCE4CB3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3080" y="366480"/>
            <a:ext cx="6170400" cy="15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3080" y="2133360"/>
            <a:ext cx="6170400" cy="603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38BB2-B2FD-4A79-97C8-0C8F7DC92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3080" y="366480"/>
            <a:ext cx="6170400" cy="15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3080" y="2133360"/>
            <a:ext cx="6170400" cy="603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EF270-897B-498E-A7C2-D5DE8B5AB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3080" y="366480"/>
            <a:ext cx="6170400" cy="15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3080" y="2133360"/>
            <a:ext cx="3011040" cy="603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4960" y="2133360"/>
            <a:ext cx="3011040" cy="603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3AA1E-52F3-44D1-9526-B1F6B88B8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3080" y="366480"/>
            <a:ext cx="6170400" cy="15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1D241-91B6-4AFC-B35C-DC4F9C08F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3080" y="366480"/>
            <a:ext cx="6170400" cy="70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3D81F-2F16-4F91-8ECC-DFD6CA178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3080" y="366480"/>
            <a:ext cx="6170400" cy="15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3080" y="2133360"/>
            <a:ext cx="3011040" cy="287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4960" y="2133360"/>
            <a:ext cx="3011040" cy="603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3080" y="5284440"/>
            <a:ext cx="3011040" cy="287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B0BFF-2991-4F09-A66D-DCD629E58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3080" y="366480"/>
            <a:ext cx="6170400" cy="15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3080" y="2133360"/>
            <a:ext cx="3011040" cy="603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4960" y="2133360"/>
            <a:ext cx="3011040" cy="287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4960" y="5284440"/>
            <a:ext cx="3011040" cy="287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95159-AFF0-47C1-BC17-D33FCE86F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3080" y="366480"/>
            <a:ext cx="6170400" cy="15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3080" y="2133360"/>
            <a:ext cx="3011040" cy="287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4960" y="2133360"/>
            <a:ext cx="3011040" cy="287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3080" y="5284440"/>
            <a:ext cx="6170400" cy="287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37D63-CA9E-4B43-9D4D-66F1EEFAB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3080" y="366480"/>
            <a:ext cx="6170400" cy="15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3080" y="2133360"/>
            <a:ext cx="6170400" cy="603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3080" y="8326080"/>
            <a:ext cx="15984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080"/>
            <a:ext cx="21700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26080"/>
            <a:ext cx="15984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4B174F5-5030-4BA9-800B-F873737B0B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19040" y="533520"/>
            <a:ext cx="6438960" cy="845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300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arting 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u can start one or more IT projects, there are three kinds of IT project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DejaVu Sans"/>
              </a:rPr>
              <a:t>build a new system for a market segment in which the bu is not yet present. the bu can choose one from three speeds available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DejaVu Sans"/>
              </a:rPr>
              <a:t>defensive (3 phases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DejaVu Sans"/>
              </a:rPr>
              <a:t>offensive (4 phases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DejaVu Sans"/>
              </a:rPr>
              <a:t>anticipative (5 phases, under architectur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DejaVu Sans"/>
              </a:rPr>
              <a:t>migrate an existing system under architecture to reduce maintenance costs (2 phas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DejaVu Sans"/>
              </a:rPr>
              <a:t>renew an existing system to begin a new life cycle (2 phas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 bu starts a project b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DejaVu Sans"/>
              </a:rPr>
              <a:t>placing a round coloured pawn, representing the project's target, up side down in the segment row of the project portfoli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DejaVu Sans"/>
              </a:rPr>
              <a:t>placing black square pawns on project phases not to be executed as follow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  <a:ea typeface="DejaVu Sans"/>
              </a:rPr>
              <a:t>defensiv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  <a:ea typeface="DejaVu Sans"/>
              </a:rPr>
              <a:t>architectu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  <a:ea typeface="DejaVu Sans"/>
              </a:rPr>
              <a:t>desig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  <a:ea typeface="DejaVu Sans"/>
              </a:rPr>
              <a:t>offensiv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  <a:ea typeface="DejaVu Sans"/>
              </a:rPr>
              <a:t>architectu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  <a:ea typeface="DejaVu Sans"/>
              </a:rPr>
              <a:t>aniticipativ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  <a:ea typeface="DejaVu Sans"/>
              </a:rPr>
              <a:t>mig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  <a:ea typeface="DejaVu Sans"/>
              </a:rPr>
              <a:t>bui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  <a:ea typeface="DejaVu Sans"/>
              </a:rPr>
              <a:t>t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  <a:ea typeface="DejaVu Sans"/>
              </a:rPr>
              <a:t>integr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  <a:ea typeface="DejaVu Sans"/>
              </a:rPr>
              <a:t>rene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  <a:ea typeface="DejaVu Sans"/>
              </a:rPr>
              <a:t>architectu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  <a:ea typeface="DejaVu Sans"/>
              </a:rPr>
              <a:t>desig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  <a:ea typeface="DejaVu Sans"/>
              </a:rPr>
              <a:t>integr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rganization can run no more than 5 [6] projects simultaneous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150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ecuting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ach fiscal year a bu can execute per project up to 3 phases by placing the required number of round silver pawn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ee the price list of the IT-manager)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, representing development capacity (price: 1 per piece), in the phases to be execu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ases have to be executed in order starting fro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DejaVu Sans"/>
              </a:rPr>
              <a:t>defensive: buil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DejaVu Sans"/>
              </a:rPr>
              <a:t>offensive: desig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DejaVu Sans"/>
              </a:rPr>
              <a:t>anticipative: architect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DejaVu Sans"/>
              </a:rPr>
              <a:t>migration: 2 phases starting from architect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DejaVu Sans"/>
              </a:rPr>
              <a:t>renewal: 2 phases starting from buil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T-department has 11 [15]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nits of development capa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150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intaining app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u can maintain a system by placing a round gold pawn, representing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intenance effort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price: the number of systems not under architecture (or / 2, depending on the parametrisation for maintenance chosen)), on the system to be mainta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63600" y="152280"/>
            <a:ext cx="6286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IT-governance game ru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part 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14360" y="533520"/>
            <a:ext cx="6443640" cy="845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300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pplication portfol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DejaVu Sans"/>
              </a:rPr>
              <a:t>a system without maintenance effort on top of it is removed from the application portfoli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DejaVu Sans"/>
              </a:rPr>
              <a:t>a system lying in a blue row (at the end of it's life cycle) is removed from the application portfolio unless a renewal project has been delivered for this system (and the system is maintained) this fiscal ye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DejaVu Sans"/>
              </a:rPr>
              <a:t>when a system has been removed from the application portfolio the systems to the right in the same market segment (if any) shift 1 column to the lef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DejaVu Sans"/>
              </a:rPr>
              <a:t>all systems move down 1 row and the maintenance efforts are returned to the maintenance are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ject portfol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DejaVu Sans"/>
              </a:rPr>
              <a:t>if no phases have been executed for a project the last completed phase is kill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DejaVu Sans"/>
              </a:rPr>
              <a:t>if a project has no completed phases left the project is kill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DejaVu Sans"/>
              </a:rPr>
              <a:t>completed phases are replaced by square coloured paw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DejaVu Sans"/>
              </a:rPr>
              <a:t>w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  <a:ea typeface="DejaVu Sans"/>
              </a:rPr>
              <a:t>hen a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DejaVu Sans"/>
              </a:rPr>
              <a:t>ll phases have been completed the project is delivered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DejaVu Sans"/>
              </a:rPr>
              <a:t>build: a square coloroud pawn is placed in it's corresponding market segment in the </a:t>
            </a:r>
            <a:r>
              <a:rPr b="0" lang="en-GB" sz="900" spc="-1" strike="noStrike">
                <a:solidFill>
                  <a:srgbClr val="000000"/>
                </a:solidFill>
                <a:latin typeface="Arial"/>
                <a:ea typeface="DejaVu Sans"/>
              </a:rPr>
              <a:t>application portfolio 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DejaVu Sans"/>
              </a:rPr>
              <a:t>the 1</a:t>
            </a:r>
            <a:r>
              <a:rPr b="0" lang="en-US" sz="800" spc="-1" strike="noStrike" baseline="30000">
                <a:solidFill>
                  <a:srgbClr val="000000"/>
                </a:solidFill>
                <a:latin typeface="Arial"/>
                <a:ea typeface="DejaVu Sans"/>
              </a:rPr>
              <a:t>s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DejaVu Sans"/>
              </a:rPr>
              <a:t> row of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4" marL="2055960" indent="-22716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»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  <a:ea typeface="DejaVu Sans"/>
              </a:rPr>
              <a:t>defensive or offensiv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DejaVu Sans"/>
              </a:rPr>
              <a:t>: the top half of the market segme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4" marL="2055960" indent="-22716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»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DejaVu Sans"/>
              </a:rPr>
              <a:t>anticipative: the bottom half of the market segme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DejaVu Sans"/>
              </a:rPr>
              <a:t>the first colum (from the left) that has not been taken by another bu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DejaVu Sans"/>
              </a:rPr>
              <a:t>renewal: the system is moved to the 1</a:t>
            </a:r>
            <a:r>
              <a:rPr b="0" lang="en-US" sz="900" spc="-1" strike="noStrike" baseline="30000">
                <a:solidFill>
                  <a:srgbClr val="000000"/>
                </a:solidFill>
                <a:latin typeface="Arial"/>
                <a:ea typeface="DejaVu Sans"/>
              </a:rPr>
              <a:t>st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DejaVu Sans"/>
              </a:rPr>
              <a:t> row in the same column of it’s half of it's market seg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DejaVu Sans"/>
              </a:rPr>
              <a:t>migration: the system is moved from the top half to the bottom half of it's market segment in the corresponding row and the same colum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ket sh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DejaVu Sans"/>
              </a:rPr>
              <a:t>the market share a bu gains depens 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DejaVu Sans"/>
              </a:rPr>
              <a:t>the number of bu's present on that market seg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DejaVu Sans"/>
              </a:rPr>
              <a:t>the order in which the bu penetrated that market seg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ank pays the bu's their turn o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1200" spc="-1" strike="noStrike">
                <a:solidFill>
                  <a:srgbClr val="ff6600"/>
                </a:solidFill>
                <a:latin typeface="Arial"/>
              </a:rPr>
              <a:t>orange jacke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handed over to the leading b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IT-manager announces the maintenance costs for the next fiscal y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150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st of paw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, yellow, blue or green square paw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d phase or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ck square paw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ase to be d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, yellow, blue or green round paw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ject targ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lver round paw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elopment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pa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ld round paw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ff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3600" y="152280"/>
            <a:ext cx="6286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IT-governance game ru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part 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166840" y="5264280"/>
          <a:ext cx="2667240" cy="1365120"/>
        </p:xfrm>
        <a:graphic>
          <a:graphicData uri="http://schemas.openxmlformats.org/drawingml/2006/table">
            <a:tbl>
              <a:tblPr/>
              <a:tblGrid>
                <a:gridCol w="701640"/>
                <a:gridCol w="701640"/>
                <a:gridCol w="425520"/>
                <a:gridCol w="457200"/>
                <a:gridCol w="381240"/>
              </a:tblGrid>
              <a:tr h="227160">
                <a:tc gridSpan="2" rowSpan="2">
                  <a:txBody>
                    <a:bodyPr lIns="90000" rIns="90000" tIns="104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et sh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104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v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716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04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s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104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n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104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r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368280">
                <a:tc rowSpan="3">
                  <a:txBody>
                    <a:bodyPr lIns="90000" rIns="90000" tIns="104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ber of bu'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104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104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04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104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04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04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104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04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04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1T09:06:22Z</dcterms:created>
  <dc:creator>x</dc:creator>
  <dc:description/>
  <dc:language>en-US</dc:language>
  <cp:lastModifiedBy>jj</cp:lastModifiedBy>
  <dcterms:modified xsi:type="dcterms:W3CDTF">2009-09-30T10:23:16Z</dcterms:modified>
  <cp:revision>322</cp:revision>
  <dc:subject/>
  <dc:title>Spelregels IT-governance game</dc:title>
</cp:coreProperties>
</file>