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2665-3557-4AB6-A4A2-C3D4DE24B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5298-C942-4D5A-9370-965701B6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0B9D-AEC9-4EE5-9DAD-9C8A51279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0EAA-F01B-41BB-8951-8DE1887FA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23A5-AF8C-47BA-BB33-694F7A7E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2902-6789-40E5-8EA0-55F4C153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7D69-1A00-4941-A1D2-F3468F70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6755-ACCB-4D9B-AE6C-870E740D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1161-3AF5-4256-9183-C5343B6F9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496B-A258-4BA4-BD0D-D9A1A1EC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25ED-2A4C-4FFE-94AB-AAF10297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BC9C-4DF7-41F1-B120-C6E3EB10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4274-D354-4D0D-ABCA-C2B7ACDF5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5:28:50Z</dcterms:created>
  <dc:creator>x</dc:creator>
  <dc:description/>
  <dc:language>en-US</dc:language>
  <cp:lastModifiedBy>x</cp:lastModifiedBy>
  <dcterms:modified xsi:type="dcterms:W3CDTF">2008-05-02T07:20:35Z</dcterms:modified>
  <cp:revision>7</cp:revision>
  <dc:subject/>
  <dc:title>PowerPoint-presentatie</dc:title>
</cp:coreProperties>
</file>