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1C9B-39BA-4AFA-A32E-B79412B6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6A2-C6DE-4DCE-B5E7-39F319C6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0741-9F28-4003-81CB-BD85CE48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54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54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B338-33C4-42DA-814F-74DA6A2BC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5564-246D-4BEE-944B-46D83733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E90C-9C36-477D-9215-D93D32D5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E7C9-A135-4465-956C-2AA89482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C4B6-C523-408F-AF57-B554F23F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366480"/>
            <a:ext cx="61704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F841-3769-43CB-A5BB-B48C9C1C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C39E-9EE3-433F-954F-A083652F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456D-AE1A-4E55-9823-554EA9EC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2736-E2A8-4C6C-AAAB-6005EFBC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080"/>
            <a:ext cx="2170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B56373-6480-40EC-8B3E-32D9437B4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, 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build a new system for a market segment in which the bu is not yet present.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bu starts a projec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a round coloured pawn, representing the project's target, up side down in the segment row of the project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black square pawns on project phases not to be executed as follow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niticipat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bui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can run no more than 5 [6] projects simultaneous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 by placing the required number of round silver paw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representing development capacity (price: 1 per piece), in the phases to be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ses have to be executed in order starting fr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defensive: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offensive: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2 phases starting from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al: 2 phases starting from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department has 11 [15]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ts of developmen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maintain a system by placing a round gold pawn, representing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effor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ice: the number of systems not under architecture (or / 2, depending on the parametrisation for maintenance chosen)), on the system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4360" y="533520"/>
            <a:ext cx="644364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without maintenance effort on top of it is removed from the application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lying in a blue row (at the end of it's life cycle) is removed from the application portfolio unless a renewal project has been delivered for this system (and the system is maintained) this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when a system has been removed from the application portfolio the systems to the right in the same market segment (if any) shift 1 column to the 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ll systems move down 1 row and the maintenance efforts are returned to the maintenance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no phases have been executed for a project the last completed phase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a project has no completed phases left the project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completed phases are replaced by square coloured paw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w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  <a:ea typeface="DejaVu Sans"/>
              </a:rPr>
              <a:t>hen 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ll phases have been completed the project is deliver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build: a square coloroud pawn is placed in it's corresponding market segment in the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pplication portfolio 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 row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or offens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: the top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the bottom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first colum (from the left) that has not been taken by another b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wal: the system is moved to the 1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 row in the same column of it’s half of it's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the system is moved from the top half to the bottom half of it's market segment in the corresponding row and the same colum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the market share a bu gains depens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number of bu's present on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order in which the bu penetrated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paw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d phase o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to b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66840" y="5264280"/>
          <a:ext cx="2667240" cy="13651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1240"/>
              </a:tblGrid>
              <a:tr h="227160">
                <a:tc gridSpan="2" rowSpan="2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 row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jj</cp:lastModifiedBy>
  <dcterms:modified xsi:type="dcterms:W3CDTF">2009-09-30T10:23:16Z</dcterms:modified>
  <cp:revision>322</cp:revision>
  <dc:subject/>
  <dc:title>Spelregels IT-governance game</dc:title>
</cp:coreProperties>
</file>