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94B8-51A9-4FDC-B51A-9E317D6E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E5A-985A-4B6C-A843-36694EC7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4AF5-9242-4AB1-9BEA-F342A5FA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61F-D7D0-45E6-B32D-211498F1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6F66-CDAC-458E-89E8-79218672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832-1C77-467F-9AC8-DDEBB7E1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87CB-E6EA-4C4F-B604-7935D55B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787-7C9A-4DE0-81C2-ED59C33B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117C-86F0-424E-B483-FF1D64CF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B71-7DB3-4527-8EB3-EA3EB6EE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136C-0EAE-47A2-9375-2848922E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B87-3D6D-4AD1-AAFF-D676D364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AD45-DC0C-4B33-9C3D-019F94AF9E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360" y="533520"/>
            <a:ext cx="617220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[4]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6248520"/>
          <a:ext cx="2666880" cy="13777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2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well, 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 in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ch bu receives from the IT-manager a report on the status of it's projects an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9-02-17T11:22:03Z</dcterms:modified>
  <cp:revision>327</cp:revision>
  <dc:subject/>
  <dc:title>Spelregels IT-governance game</dc:title>
</cp:coreProperties>
</file>