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0778-ADF5-49F3-9F94-86EE04818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E57F-E861-4447-8AFC-E038384F9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746C-829A-4B15-BB43-4152B905D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2561-86FA-43CF-80B3-2A0B472A7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E011-24C1-4D57-B000-F94F4CAF9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9640-95B9-4E57-9393-9B75A9D88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D9BF-EE71-44B9-9280-51B7FFB29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B7F0-ECD6-478B-BDE6-2DE6C3C94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7398-D8C3-4307-BBA7-B1C6BACE5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581C-7CF4-4E37-8ABD-50D94BB52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38CD-8916-4118-84B8-52BBC2640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1D51-CC6D-4D85-9475-5AA655DEA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41EC1-E433-48FE-8F25-2DE4D04D91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3080" y="684360"/>
            <a:ext cx="6172200" cy="74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er iets beslo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sschien is er iets besloten dat je niet kunt zi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 is er beslo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eft iedereen hetzelfde beeld van het besluit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e heeft dat beslo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 iemand of een groep, gaat iedereen mee in het besluit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neer werd dat beslo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s het van te voren al duidelijk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e werd beslo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t pro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arom werd dit beslo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ar werd rekening mee gehouden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3080" y="366840"/>
            <a:ext cx="6172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aluatie besluitv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1T09:06:22Z</dcterms:created>
  <dc:creator>x</dc:creator>
  <dc:description/>
  <dc:language>en-US</dc:language>
  <cp:lastModifiedBy>x</cp:lastModifiedBy>
  <dcterms:modified xsi:type="dcterms:W3CDTF">2008-03-02T09:02:43Z</dcterms:modified>
  <cp:revision>86</cp:revision>
  <dc:subject/>
  <dc:title>Spelregels IT-governance gam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403606902</vt:r8>
  </property>
  <property fmtid="{D5CDD505-2E9C-101B-9397-08002B2CF9AE}" pid="3" name="_AuthorEmail">
    <vt:lpwstr>J.vanBeele@meavita.nl</vt:lpwstr>
  </property>
  <property fmtid="{D5CDD505-2E9C-101B-9397-08002B2CF9AE}" pid="4" name="_AuthorEmailDisplayName">
    <vt:lpwstr>Jeroen van Beele</vt:lpwstr>
  </property>
  <property fmtid="{D5CDD505-2E9C-101B-9397-08002B2CF9AE}" pid="5" name="_EmailSubject">
    <vt:lpwstr>gg vr 13</vt:lpwstr>
  </property>
  <property fmtid="{D5CDD505-2E9C-101B-9397-08002B2CF9AE}" pid="6" name="_PreviousAdHocReviewCycleID">
    <vt:r8>1283275073</vt:r8>
  </property>
</Properties>
</file>