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3D01-05F6-4B34-993E-97CE40BF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B453-9E9C-458C-86CA-7E2A033E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2E42-AD01-46B9-AD7F-A74EC941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BD1-3528-49F0-AA8E-1B589673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CAF-9B43-4865-9DD2-E27A27D3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6181-7230-4C1F-9E7A-38BDB556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8E4E-50D9-4738-88C0-DCB01221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B1AE-D366-4FBB-87EC-98D6D2C0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686-6CD4-457F-9154-9A24F762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11D-EC3E-4DA4-9144-1C29F6D7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E5E-0BEC-4C59-ADE4-01A41A8E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50D2-A80B-4568-8F2E-4A1EEC3D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D2A7-1F21-4049-9DF3-BA93E666B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targ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build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new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igrat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und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renew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at the end of their 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aintai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8:48Z</dcterms:created>
  <dc:creator>jj</dc:creator>
  <dc:description/>
  <dc:language>en-US</dc:language>
  <cp:lastModifiedBy>jj</cp:lastModifiedBy>
  <dcterms:modified xsi:type="dcterms:W3CDTF">2009-07-10T08:19:01Z</dcterms:modified>
  <cp:revision>1</cp:revision>
  <dc:subject/>
  <dc:title>PowerPoint-presentatie</dc:title>
</cp:coreProperties>
</file>