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1CFB-EAD2-4E1A-8AA2-D48A6CCEF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7E38-D975-46B4-9D2E-B02BF10B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EE42-012D-4DF4-A872-F4196A3F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2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54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0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2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54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540A-84B8-49E9-8C84-425F145CB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56F9-28BF-4F85-9BD8-EFEC8B9F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5D2F-77E3-4F03-99CA-57EBBE7E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9EA3-EFDB-428A-84E1-1DE3B3A7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70EE-FF66-40B3-8AD2-2F3AD5DD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080" y="366480"/>
            <a:ext cx="61704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0A35-AC52-42B5-8141-1A816892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EF56-8803-4BDA-A03F-E6C8F824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CF1A-8693-488C-BED8-1ED42B04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701A-8F68-43E3-935B-4893BE49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080"/>
            <a:ext cx="2170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8CF6C4-024C-437A-925A-2271E9074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040" y="533520"/>
            <a:ext cx="64389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start one or more IT projects, 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build a new system for a market segment in which the bu is not yet present.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defensive (3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offensive (4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 (5 phases, under architectur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migrate an existing system under architecture to reduce maintenance costs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renew an existing system to begin a new life cycle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bu starts a projec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placing a round coloured pawn, representing the project's target, up side down in the segment row of the project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placing black square pawns on project phases not to be executed as follow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de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of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aniticipat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mig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bui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integ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rene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integ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ganization can run no more than 5 [6] projects simultaneous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a bu can execute per project up to 3 phases by placing the required number of round silver paw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he price list of the IT-manager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representing development capacity (price: 1 per piece), in the phases to be 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ses have to be executed in order starting fro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defensive: bu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offensive: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: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migration: 2 phases starting from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renewal: 2 phases starting from bu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-department has 11 [15]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ts of development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maintain a system by placing a round gold pawn, representing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 effor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ice: the number of systems not under architecture (or / 2, depending on the parametrisation for maintenance chosen)), on the system to be mai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14360" y="533520"/>
            <a:ext cx="644364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 system without maintenance effort on top of it is removed from the application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 system lying in a blue row (at the end of it's life cycle) is removed from the application portfolio unless a renewal project has been delivered for this system (and the system is maintained) this fisca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when a system has been removed from the application portfolio the systems to the right in the same market segment (if any) shift 1 column to the le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ll systems move down 1 row and the maintenance efforts are returned to the maintenance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if no phases have been executed for a project the last completed phase is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if a project has no completed phases left the project is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completed phases are replaced by square coloured paw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w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  <a:ea typeface="DejaVu Sans"/>
              </a:rPr>
              <a:t>hen 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ll phases have been completed the project is delivered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build: a square coloroud pawn is placed in it's corresponding market segment in the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application portfolio 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the 1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s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 row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fensive or offensi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: the top half of the market 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: the bottom half of the market 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the first colum (from the left) that has not been taken by another b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renewal: the system is moved to the 1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s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 row in the same column of it’s half of it's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migration: the system is moved from the top half to the bottom half of it's market segment in the corresponding row and the same colum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the market share a bu gains depens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the number of bu's present on that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the order in which the bu penetrated that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nk pays the bu's their turn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orange jack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handed over to the leading b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T-manager announces the maintenance costs for the next fiscal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of paw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, yellow, blue or green square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d phase o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square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 to be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, yellow, blue or green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66840" y="5264280"/>
          <a:ext cx="2667240" cy="13651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425520"/>
                <a:gridCol w="457200"/>
                <a:gridCol w="381240"/>
              </a:tblGrid>
              <a:tr h="227160">
                <a:tc gridSpan="2" rowSpan="2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 rowSpan="3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u'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jj</cp:lastModifiedBy>
  <dcterms:modified xsi:type="dcterms:W3CDTF">2009-09-30T10:23:16Z</dcterms:modified>
  <cp:revision>322</cp:revision>
  <dc:subject/>
  <dc:title>Spelregels IT-governance game</dc:title>
</cp:coreProperties>
</file>