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821C-8A33-4CE4-9AB7-DB40CF17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AB0F-9978-4E9D-8A3E-5E32B191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A9F-AC92-48A8-838D-20269056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FA03-50D3-416D-A1AD-B552B020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39DC-5529-4A6B-9998-33E984B7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95AD-5DA7-4A2A-B6DB-07731189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25E1-FB0F-4522-9EFA-E4C6EE59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2CA-A3BF-4114-877F-DF5108DD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8E34-FB52-4F46-B9AE-97C34A92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A1C4-0520-4251-B7AE-BE261F81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B407-3E43-4BE0-AD6B-B26D9F41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E65C-F08E-4373-8137-A24AAE23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D1B1-85FB-4A6A-8869-78492EC3DB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360" y="533520"/>
            <a:ext cx="617220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ers are divided into 3 [4]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am represents a business unit (b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's together form on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me is played in rounds (fiscal years) consisting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0 min play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ard of directors has decided to gain as much market share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at end each of the bu's has for target to maximise it's individual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each fiscal year the bu with the largest market share wears 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ner of the game is the bu with the largest market share by the end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gain market share in a market segment by building an IT-system for tha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in either of 3 sp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ticipative (under archite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s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rket segment generates a turn over of 6 shared among the bu'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irst mover principle) the earlier a bu is present in a market segment the larger it's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nder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s maintenanc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mor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governance game is a game of balanc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peed (market sh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itecture (maintenance co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6248520"/>
          <a:ext cx="2666880" cy="13777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0880"/>
              </a:tblGrid>
              <a:tr h="2725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85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 by asking the IT-manager to do so on it's be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,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vmestent depends on the type of project and the number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can be put on hold (ie temporarily not execu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 extr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needed to complete the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the project needs as man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complete as originally the project is kill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next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ystem on the market board has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5 fiscal years a system reaches it's end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at case besides maintenance a renewal project has to be delivered for tha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well, again 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is followed by an evaluation in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ch bu receives from the IT-manager a report on the status of it's projects and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0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9-02-17T11:22:03Z</dcterms:modified>
  <cp:revision>327</cp:revision>
  <dc:subject/>
  <dc:title>Spelregels IT-governance game</dc:title>
</cp:coreProperties>
</file>