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7D10-0B4A-4A0D-851D-C5C019626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5E1A-65AC-433E-B285-BA7389F1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1272-6DE4-42F3-B339-2430D26D4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D193-0302-4981-B1AD-058B7C51C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82E9-8F30-4DA8-AB9B-A4EF8199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0B8B-EC09-4B2E-8682-7934407F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6D6C-E131-419C-AC39-6FFD09A1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985B-FEA8-45A2-98DF-C54398B2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0A08-B165-42D2-A55F-6C2E2AB2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C02D-A81F-4125-AAD0-D641BE25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7963-9B9D-4896-9916-C49CA03D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434F-5638-4597-9E11-DD38291D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F4A9-7A04-45F2-9DFD-185D3339B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targe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build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new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migrat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 under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renew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 at the end of their life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maintai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8:18:48Z</dcterms:created>
  <dc:creator>jj</dc:creator>
  <dc:description/>
  <dc:language>en-US</dc:language>
  <cp:lastModifiedBy>jj</cp:lastModifiedBy>
  <dcterms:modified xsi:type="dcterms:W3CDTF">2009-07-10T08:19:01Z</dcterms:modified>
  <cp:revision>1</cp:revision>
  <dc:subject/>
  <dc:title>PowerPoint-presentatie</dc:title>
</cp:coreProperties>
</file>