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6A2-AF15-4131-85BE-CBCABB25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AA04-788F-48FA-B70C-8B685884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717-49D2-4166-A2B4-14E06B9A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0C5-7AB1-46C4-8120-33D4C3AB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16E-DE2D-44FE-BC18-8A5F0458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2DA-03AC-42AF-A6F0-C7817D2F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902F-8E22-4076-A134-D18E2636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EAF-AFFF-4FEE-A85B-363206FF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16A-DC6B-4E09-90EA-72CA433F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834-0C2A-4067-AD6F-02DF8C0A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1B8-D454-40BE-BE6C-C11B2190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6F7-70C0-4C46-88BA-0558F077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0C76-E63D-48A0-AA58-AAC5711E7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1371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8672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808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60020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943600"/>
            <a:ext cx="457200" cy="457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8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8672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3:37Z</dcterms:created>
  <dc:creator>jj</dc:creator>
  <dc:description/>
  <dc:language>en-US</dc:language>
  <cp:lastModifiedBy>jj</cp:lastModifiedBy>
  <dcterms:modified xsi:type="dcterms:W3CDTF">2009-07-10T08:13:55Z</dcterms:modified>
  <cp:revision>1</cp:revision>
  <dc:subject/>
  <dc:title>PowerPoint-presentatie</dc:title>
</cp:coreProperties>
</file>