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9217D-5DC7-419D-A287-C5547669B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CD9F1-2B0F-45CC-98FC-7A7313681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BE2C7-D767-40D2-97A0-30C89270A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68E6A-853E-4C20-83EE-34559D3AC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B7352-7559-402B-AE37-B24B963AD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C23F9-C5BD-4D60-9FC9-D617DFC9B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AE662-7BA4-46E5-B9B9-3DADF0E02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8B3C7-2E39-4518-B34F-70A353CBC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F3976-B780-4C01-B163-62020151F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3F163-DC02-4698-9F73-2E2A95D65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B1B4A-9324-4C8B-ACFF-D311A2EB3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54498-243D-475F-99CF-C57872A4C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0DA8F-B359-482B-89FF-40AAB22756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6000" spc="-1" strike="noStrike">
                <a:solidFill>
                  <a:srgbClr val="ff0000"/>
                </a:solidFill>
                <a:latin typeface="Times New Roman"/>
              </a:rPr>
              <a:t>target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0" spc="-1" strike="noStrike">
                <a:solidFill>
                  <a:srgbClr val="ff0000"/>
                </a:solidFill>
                <a:latin typeface="Times New Roman"/>
              </a:rPr>
              <a:t>build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new syste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0" spc="-1" strike="noStrike">
                <a:solidFill>
                  <a:srgbClr val="ff0000"/>
                </a:solidFill>
                <a:latin typeface="Times New Roman"/>
              </a:rPr>
              <a:t>migrate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existing systems under architec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0" spc="-1" strike="noStrike">
                <a:solidFill>
                  <a:srgbClr val="ff0000"/>
                </a:solidFill>
                <a:latin typeface="Times New Roman"/>
              </a:rPr>
              <a:t>renew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existing systems at the end of their life cyc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0" spc="-1" strike="noStrike">
                <a:solidFill>
                  <a:srgbClr val="ff0000"/>
                </a:solidFill>
                <a:latin typeface="Times New Roman"/>
              </a:rPr>
              <a:t>maintain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existing syste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0T08:18:48Z</dcterms:created>
  <dc:creator>jj</dc:creator>
  <dc:description/>
  <dc:language>en-US</dc:language>
  <cp:lastModifiedBy>jj</cp:lastModifiedBy>
  <dcterms:modified xsi:type="dcterms:W3CDTF">2009-07-10T08:19:01Z</dcterms:modified>
  <cp:revision>1</cp:revision>
  <dc:subject/>
  <dc:title>PowerPoint-presentatie</dc:title>
</cp:coreProperties>
</file>