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41D8-89E1-426D-AA39-7E063AA07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3080" y="528444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B854-4B70-4675-9262-3FB12E45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496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66DB-E499-44EE-8CBB-1D4DD186F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2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54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30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2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54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F755-F5FE-41DF-8E8D-AC5582E8B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F080-D37C-48A1-9778-F7019445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450A-AB52-4FEB-912E-2141EFB44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7F3C5-01EA-40C1-B746-DB7551105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2CAF-3899-4E33-826C-AAC46A1D3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3080" y="366480"/>
            <a:ext cx="617040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1BD6-E640-4E04-96AD-70AB6C80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3D65-88CE-4E9A-AF7F-FA64D1D0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496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46A0-E847-4085-84C3-89E2BFE5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A2D3-765E-4411-B5D3-4E63D75E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3080" y="8326080"/>
            <a:ext cx="1598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080"/>
            <a:ext cx="2170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26080"/>
            <a:ext cx="1598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88A670-214E-4D14-8A65-EC44642E9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040" y="533520"/>
            <a:ext cx="643896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rting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start one or more IT projects, there are three kinds of IT proj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build a new system for a market segment in which the bu is not yet present. the bu can choose one from three speeds availab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defensive (3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offensive (4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 (5 phases, under architectur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migrate an existing system under architecture to reduce maintenance costs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renew an existing system to begin a new life cycle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bu starts a project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placing a round coloured pawn, representing the project's target, up side down in the segment row of the project portfol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placing black square pawns on project phases not to be executed as follow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defens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sig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offens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aniticipat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mig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bui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integ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rene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sig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integ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ganization can run no more than 5 [6] projects simultaneous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a bu can execute per project up to 3 phases by placing the required number of round silver paw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e the price list of the IT-manager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representing development capacity (price: 1 per piece), in the phases to be exec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ases have to be executed in order starting fro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defensive: bui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offensive: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: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migration: 2 phases starting from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renewal: 2 phases starting from bui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-department has 11 [15]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ts of development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aining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maintain a system by placing a round gold pawn, representing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 effor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ice: the number of systems not under architecture (or / 2, depending on the parametrisation for maintenance chosen)), on the system to be main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14360" y="533520"/>
            <a:ext cx="644364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ortf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 system without maintenance effort on top of it is removed from the application portfol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 system lying in a blue row (at the end of it's life cycle) is removed from the application portfolio unless a renewal project has been delivered for this system (and the system is maintained) this fiscal 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when a system has been removed from the application portfolio the systems to the right in the same market segment (if any) shift 1 column to the lef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ll systems move down 1 row and the maintenance efforts are returned to the maintenance a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 portf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if no phases have been executed for a project the last completed phase is kill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if a project has no completed phases left the project is kill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completed phases are replaced by square coloured paw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w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  <a:ea typeface="DejaVu Sans"/>
              </a:rPr>
              <a:t>hen 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ll phases have been completed the project is delivered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build: a square coloroud pawn is placed in it's corresponding market segment in the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application portfolio 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the 1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s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 row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fensive or offensi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: the top half of the market seg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: the bottom half of the market seg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the first colum (from the left) that has not been taken by another b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renewal: the system is moved to the 1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s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 row in the same column of it’s half of it's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migration: the system is moved from the top half to the bottom half of it's market segment in the corresponding row and the same colum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the market share a bu gains depens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the number of bu's present on that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the order in which the bu penetrated that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nk pays the bu's their turn 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orange jack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handed over to the leading b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T-manager announces the maintenance costs for the next fiscal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of paw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, yellow, blue or green square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d phase o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square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 to be 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, yellow, blue or green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ver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f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166840" y="5264280"/>
          <a:ext cx="2667240" cy="1365120"/>
        </p:xfrm>
        <a:graphic>
          <a:graphicData uri="http://schemas.openxmlformats.org/drawingml/2006/table">
            <a:tbl>
              <a:tblPr/>
              <a:tblGrid>
                <a:gridCol w="701640"/>
                <a:gridCol w="701640"/>
                <a:gridCol w="425520"/>
                <a:gridCol w="457200"/>
                <a:gridCol w="381240"/>
              </a:tblGrid>
              <a:tr h="227160">
                <a:tc gridSpan="2" rowSpan="2"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h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71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68280">
                <a:tc rowSpan="3"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bu'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jj</cp:lastModifiedBy>
  <dcterms:modified xsi:type="dcterms:W3CDTF">2009-09-30T10:23:16Z</dcterms:modified>
  <cp:revision>322</cp:revision>
  <dc:subject/>
  <dc:title>Spelregels IT-governance game</dc:title>
</cp:coreProperties>
</file>