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6733-E551-4E8E-8E42-B1CF57852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3CAA-EF85-4E32-B5EF-46CFBEED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C9CE-CA69-4432-9EBA-B87BC4FB2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A2E4-7664-46B4-B395-50DC811E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44F-CA58-4440-829A-2D1D5E69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DBAA-9BA2-402A-A6A8-E4D4AFCA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89FB-1727-4791-B288-9089492B7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BE47-FDEF-4F03-9C14-FBD0AAE2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A882-0465-4FDF-9FD1-2ACA530A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A50-862B-4F67-8C1B-B0314486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B93D-F972-4F9C-9204-65229CBA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5B51-D2F9-4B54-8EEF-1D7DAB6E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EA66-371A-44D1-A92A-D9E90715A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20:35Z</dcterms:modified>
  <cp:revision>7</cp:revision>
  <dc:subject/>
  <dc:title>PowerPoint-presentatie</dc:title>
</cp:coreProperties>
</file>