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638-3385-44E3-8978-3AA173D0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C460-3202-4599-B247-570B5EDB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141C-7C1F-4D2F-8D25-090DC622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BB01-122A-47E4-AA00-828D3B9B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32EC-BAB5-4E90-8E06-DDF69D9A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496-7CB2-45C7-9D33-87799935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BFE-28D7-4FA7-86F0-82DD956F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C0A1-413C-4E68-863A-29AD42E3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480"/>
            <a:ext cx="61704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59C-D92C-4BA9-ADD3-1486FFDD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15D-827D-4448-BC56-489FDB1A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DC03-BC7D-4BC4-A61E-3A014146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83D-F31C-4193-B3ED-711EEF77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3B9FE1-DB7F-482A-9C6A-DEC34E19C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,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bu starts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a round coloured pawn, representing the project's target, up side down in the segment row of th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black square pawns on project phases not to be executed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ni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bui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no more than 5 [6]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 by placing the required number of round silver paw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representing development capacity (price: 1 per piece), in the phases to be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s have to be executed in order starting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defensive: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offensive: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2 phases starting from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al: 2 phases starting from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department has 11 [15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ts of developmen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maintain a system by placing a round gold pawn, representin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effo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ice: the number of systems not under architecture (or / 2, depending on the parametrisation for maintenance chosen)), on the system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360" y="533520"/>
            <a:ext cx="644364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without maintenance effort on top of it is removed from the application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lying in a blue row (at the end of it's life cycle) is removed from the application portfolio unless a renewal project has been delivered for this system (and the system is maintained) this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when a system has been removed from the application portfolio the systems to the right in the same market segment (if any) shift 1 column to the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ll systems move down 1 row and the maintenance efforts are returned to the maintenanc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no phases have been executed for a project the last completed phase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a project has no completed phases left the project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completed phases are replaced by square coloured pa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w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  <a:ea typeface="DejaVu Sans"/>
              </a:rPr>
              <a:t>hen 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ll phases have been completed the project is delive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build: a square coloroud pawn is placed in it's corresponding market segment in th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portfolio 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 row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or offens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: the top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the bottom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first colum (from the left) that has not been taken by another 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wal: the system is moved to the 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 row in the same column of it’s half of it's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the system is moved from the top half to the bottom half of it's market segment in the corresponding row and the same colu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the market share a bu gains depens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number of bu's present on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order in which the bu penetrated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a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phase o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66840" y="5264280"/>
          <a:ext cx="2667240" cy="1365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1240"/>
              </a:tblGrid>
              <a:tr h="227160">
                <a:tc gridSpan="2" rowSpan="2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 row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jj</cp:lastModifiedBy>
  <dcterms:modified xsi:type="dcterms:W3CDTF">2009-09-30T10:23:16Z</dcterms:modified>
  <cp:revision>322</cp:revision>
  <dc:subject/>
  <dc:title>Spelregels IT-governance game</dc:title>
</cp:coreProperties>
</file>