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8902-F833-4F6F-AF21-F8AB1D51A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2729-8B8A-4762-8082-252D6004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1AE1-83E4-410A-A5F6-0A600A044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0565-E5DE-47A3-9E88-8D9474AD7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ED84-4171-47CD-8981-F61F7C0E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824B-8240-42FB-BEBD-7EA4A3473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0BE4-92E0-4B69-BD47-38006D3D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C061-D69B-4F31-834B-5A0571EE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1E3C-CEF8-4CC6-A0D6-788699E6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FA6E-D6B9-4720-85D1-D8984BEB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9CEC-8636-4AE9-9E91-F45492BB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176B-2704-4B65-A0BA-DC5DA06C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AD82-AB88-4617-9FDA-B0E610E15FC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4360" y="533520"/>
            <a:ext cx="617220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yers are divided into 3 [4]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am represents a business unit (b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's together form one 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me is played in rounds (fiscal years) consisting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ximately 10 min playing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ard of directors has decided to gain as much market share as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hat end each of the bu's has for target to maximise it's individual 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each fiscal year the bu with the largest market share wears the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orange ja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ner of the game is the bu with the largest market share by the end of the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gain market share in a market segment by building an IT-system for that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 in either of 3 sp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n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ticipative (under architec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s of the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market segment generates a turn over of 6 shared among the bu's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irst mover principle) the earlier a bu is present in a market segment the larger it's 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under archit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wers maintenance co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kes more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-governance game is a game of balance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betw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peed (market sha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rchitecture (maintenance cos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33520" y="6248520"/>
          <a:ext cx="2666880" cy="1377720"/>
        </p:xfrm>
        <a:graphic>
          <a:graphicData uri="http://schemas.openxmlformats.org/drawingml/2006/table">
            <a:tbl>
              <a:tblPr/>
              <a:tblGrid>
                <a:gridCol w="701640"/>
                <a:gridCol w="701640"/>
                <a:gridCol w="425520"/>
                <a:gridCol w="457200"/>
                <a:gridCol w="380880"/>
              </a:tblGrid>
              <a:tr h="27252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h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858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bu'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19040" y="533520"/>
            <a:ext cx="643896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rting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start one or more IT projects by asking the IT-manager to do so on it's beha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hree kinds of IT proj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a new system for a market segment in which the bu is not yet present, the bu can choose one from three speeds availab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fensive (3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fensive (4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ticipative (5 phases, under architectur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grate an existing system under architecture to reduce maintenance costs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new an existing system to begin a new life cycle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a bu can execute per project up to 3 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nvmestent depends on the type of project and the number o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 exec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e the price list of the IT-manag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can be put on hold (ie temporarily not execu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 extra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s needed to complete the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f the project needs as many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s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o complete as originally the project is killed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uring the next eval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aining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system on the market board has to be main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 the system will be removed from the market board during the next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5 fiscal years a system reaches it's end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at case besides maintenance a renewal project has to be delivered for tha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well, again otherwise the system will be removed from the market board during the next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is followed by an evaluation in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ach bu receives from the IT-manager a report on the status of it's projects and appl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bank pays the bu's their turn o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000" spc="-1" strike="noStrike">
                <a:solidFill>
                  <a:srgbClr val="ff6600"/>
                </a:solidFill>
                <a:latin typeface="Arial"/>
              </a:rPr>
              <a:t>orange jacke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handed over to the leading b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IT-manager announces the maintenance costs for the next fiscal 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x</cp:lastModifiedBy>
  <dcterms:modified xsi:type="dcterms:W3CDTF">2009-02-17T11:22:03Z</dcterms:modified>
  <cp:revision>327</cp:revision>
  <dc:subject/>
  <dc:title>Spelregels IT-governance game</dc:title>
</cp:coreProperties>
</file>