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07C-E65F-4433-AE6B-6A8E15DB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EFE-9D26-47DE-96DB-344D291D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BF6E-0663-429B-93AB-B4F5076F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5C2-27ED-412E-8645-E76991D0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939-2741-4465-83E1-A1A96458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5DB-EAF5-46BE-B28F-735491BA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5B42-6F87-404D-A6E4-40508BDD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143A-189E-4854-A1D3-02CB332D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005A-EFB7-4600-A392-9D684D7A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9E2-CDE2-4721-A819-B7026A26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745-9183-486E-A62D-E703A444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E2C-1EA4-4459-8226-43E9BB63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A693-67A7-416B-BDA9-8236C7C11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targ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8:48Z</dcterms:created>
  <dc:creator>jj</dc:creator>
  <dc:description/>
  <dc:language>en-US</dc:language>
  <cp:lastModifiedBy>jj</cp:lastModifiedBy>
  <dcterms:modified xsi:type="dcterms:W3CDTF">2009-07-10T08:19:01Z</dcterms:modified>
  <cp:revision>1</cp:revision>
  <dc:subject/>
  <dc:title>PowerPoint-presentatie</dc:title>
</cp:coreProperties>
</file>