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1C5A-3D7D-4728-ADA0-6EEE24ECC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3AB8-3CA2-4E26-8629-2E9C4171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4DBB-FE96-4B8B-AF52-E39C3EE8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4C00-5E9B-4232-B269-452846BF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3668-4167-470C-9C44-22C6254E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53EE-DAE7-4000-95A7-825CF749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6710-A850-4865-B1A5-EE3EEDFD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88F9-C5C5-47E8-A7DD-B7BC499C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4892-30DD-4316-B85C-CDE65D8D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FC5F-265F-4DB7-A8D4-6D624BA1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8724-FF01-4667-BB4C-47AE514C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5B83-6E0F-49AF-8134-8BA4A4D2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D477-6EF5-462F-8BC3-794407D1D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targe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build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new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igrat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under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renew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at the end of their life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aintai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8:48Z</dcterms:created>
  <dc:creator>jj</dc:creator>
  <dc:description/>
  <dc:language>en-US</dc:language>
  <cp:lastModifiedBy>jj</cp:lastModifiedBy>
  <dcterms:modified xsi:type="dcterms:W3CDTF">2009-07-10T08:19:01Z</dcterms:modified>
  <cp:revision>1</cp:revision>
  <dc:subject/>
  <dc:title>PowerPoint-presentatie</dc:title>
</cp:coreProperties>
</file>