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A59B-D82A-4729-B30D-361968F0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FFC-DD11-4098-9445-43AC79BC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30A-A0B3-4AB0-8B1D-DE7517E9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7F9-CAC2-45A3-A6AB-A2DEA9A7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079-78D1-4559-87E8-B669CAEA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3E2-884D-4477-8982-5AE8DF9B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3D4-6F39-4C9A-AD3F-C2D424C9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63C1-8A8A-474E-990E-5E312F5D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0F8B-76AE-4DCB-B935-98134366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286-C6FF-41A7-8145-BD7E416A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8FA3-E338-4594-B2DD-D7E66D39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E4F-6D6E-4541-99AD-46EBC0CD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0846-6870-4630-BC65-8A25A9550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09-09-30T09:42:24Z</dcterms:modified>
  <cp:revision>7</cp:revision>
  <dc:subject/>
  <dc:title>PowerPoint-presentatie</dc:title>
</cp:coreProperties>
</file>