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98A-3E24-43D1-8657-70AE02D8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F9EA-29D0-449E-80C8-48C72862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F78B-EA43-42E5-A25F-1059ABA4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EE51-9725-45BC-8B64-E5AB8BA9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550E-ECA4-40B2-A66A-A5DBBBB7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9BB7-8642-4ED2-A9D8-053CA350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E86-71F9-4EA0-B510-CAF0DB59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A332-E037-414E-BA08-FD975BCD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D77-6970-43BB-9EA6-C4B676E9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13C5-F5BB-48E5-8045-3EF98FA8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5B36-BB66-455F-A6D6-39C900F4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3453-3F29-498B-9546-5855816F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77E7-BA28-4709-9352-192D90CB1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x</cp:lastModifiedBy>
  <dcterms:modified xsi:type="dcterms:W3CDTF">2008-05-02T07:20:35Z</dcterms:modified>
  <cp:revision>7</cp:revision>
  <dc:subject/>
  <dc:title>PowerPoint-presentatie</dc:title>
</cp:coreProperties>
</file>