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2963-392A-41B6-9B3E-A56FF05DE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8287-EFF2-41BB-8BA0-B190EC4C9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19A2-CACE-40F3-86DD-1EC467DF8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4F12-50E3-4500-99DD-E60FFACB9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C2F4-3CFE-41F7-9BC6-88CB9D4A2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9C10-2E64-4535-A999-264F87044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8C20-E31C-4771-B67C-6F862ACA2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C110-F518-46A0-A70B-9CE0163C5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A8C1-CE18-457D-8243-B7FDA4835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EE03-E32E-4AD1-AD54-75325C25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E1E9-2EDD-4CDB-B83B-46A6349D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6866-3551-46CA-97A8-17A23A30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E7C94-5212-48B4-9D2C-B61642AFE7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0292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914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292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292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292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88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288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292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288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292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914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288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290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290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28800" y="5486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92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290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292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290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288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290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292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290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29200" y="5486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290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288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286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288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292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290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290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28800" y="5486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290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292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0292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290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8288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0292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288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0292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292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290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288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0292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290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288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292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292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5486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288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4290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290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4290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au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914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0292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8288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292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290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292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290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8288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290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8288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290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8288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0292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4290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8288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0292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290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8288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292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290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8288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290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029200" y="914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290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8288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288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15:28:50Z</dcterms:created>
  <dc:creator>x</dc:creator>
  <dc:description/>
  <dc:language>en-US</dc:language>
  <cp:lastModifiedBy>jj</cp:lastModifiedBy>
  <dcterms:modified xsi:type="dcterms:W3CDTF">2009-09-30T09:42:24Z</dcterms:modified>
  <cp:revision>7</cp:revision>
  <dc:subject/>
  <dc:title>PowerPoint-presentatie</dc:title>
</cp:coreProperties>
</file>