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F42C-ECD7-433B-833D-B3EFA6671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FAF5-0E45-4BC8-B19E-0EDA7D3C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7B40-2CCA-44BD-A37B-6BED40A2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E7D5-A815-49FF-AD0C-B83B23A99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2ED5-7DCB-4336-9E92-73903046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536C-FC48-49D0-86DB-F92F8B3F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7CCB-D3B1-4CCD-919C-821EC121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3644-66CA-469F-B2AB-AC18C835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301C-7736-4AF3-A21A-21500044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9844-F398-4FE7-9D91-7AFB29A9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CC94-C670-48C4-B77B-21ED6668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5F7E-8864-4E7D-9AA8-B5BCB54C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0974-8A96-4924-B926-02355B162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au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28:50Z</dcterms:created>
  <dc:creator>x</dc:creator>
  <dc:description/>
  <dc:language>en-US</dc:language>
  <cp:lastModifiedBy>jj</cp:lastModifiedBy>
  <dcterms:modified xsi:type="dcterms:W3CDTF">2009-09-30T09:42:24Z</dcterms:modified>
  <cp:revision>7</cp:revision>
  <dc:subject/>
  <dc:title>PowerPoint-presentatie</dc:title>
</cp:coreProperties>
</file>