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BA104-4AA4-4B2A-B1EC-9B4C4C0C6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6962E-F6EB-481B-965A-AE7BD0ED1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9454B-3E22-410C-BBA0-7E09FD9C1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9AE36-4F20-417F-8DFA-6D7AADAB7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95464-3B28-482E-93B1-4CD49AE6A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11231-34A2-4F2A-A6C2-10A84B644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029E2-0595-4740-BED7-A7703CF4D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3628C-E590-43F9-8638-2FA2275F8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23217-BA7F-43D6-968E-79D040A3C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30D1C-46B5-4EFB-AA3A-34D2C2E22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AAC71-4DCA-45F5-9DB7-84E032A23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EF568-4E41-4D11-B393-7C16A38D4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0F45C-5581-4AFC-80F5-445D3DBF9F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380880"/>
            <a:ext cx="13716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to 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990720"/>
            <a:ext cx="13716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start proj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1600200"/>
            <a:ext cx="1371600" cy="426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execute pha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5867280"/>
            <a:ext cx="13716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maint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828800" y="990720"/>
            <a:ext cx="27432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828800" y="1600200"/>
            <a:ext cx="13716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jec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828800" y="2209680"/>
            <a:ext cx="13716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828800" y="2819520"/>
            <a:ext cx="13716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defens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828800" y="3429000"/>
            <a:ext cx="13716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offens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828800" y="4038480"/>
            <a:ext cx="13716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anticipat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828800" y="4648320"/>
            <a:ext cx="13716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mig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828800" y="5257800"/>
            <a:ext cx="13716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renew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1600200"/>
            <a:ext cx="13716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# pha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00400" y="2209680"/>
            <a:ext cx="13716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200400" y="2819520"/>
            <a:ext cx="13716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200400" y="3429000"/>
            <a:ext cx="13716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200400" y="4038480"/>
            <a:ext cx="13716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200400" y="4648320"/>
            <a:ext cx="13716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00400" y="5257800"/>
            <a:ext cx="13716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0" y="2209680"/>
            <a:ext cx="13716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819520"/>
            <a:ext cx="13716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572000" y="3429000"/>
            <a:ext cx="1371600" cy="243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5867280"/>
            <a:ext cx="41148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day r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572000" y="380880"/>
            <a:ext cx="41148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pr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990720"/>
            <a:ext cx="41148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572000" y="1600200"/>
            <a:ext cx="41148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# pha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executed simultaneous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943600" y="2209680"/>
            <a:ext cx="13716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943600" y="2819520"/>
            <a:ext cx="13716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943600" y="3429000"/>
            <a:ext cx="1371600" cy="243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5200" y="2209680"/>
            <a:ext cx="13716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315200" y="2819520"/>
            <a:ext cx="13716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315200" y="3429000"/>
            <a:ext cx="1371600" cy="243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772400" y="5943600"/>
            <a:ext cx="457200" cy="45720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828800" y="380880"/>
            <a:ext cx="27432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828800" y="5867280"/>
            <a:ext cx="27432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0T08:13:37Z</dcterms:created>
  <dc:creator>jj</dc:creator>
  <dc:description/>
  <dc:language>en-US</dc:language>
  <cp:lastModifiedBy>jj</cp:lastModifiedBy>
  <dcterms:modified xsi:type="dcterms:W3CDTF">2009-07-10T08:13:55Z</dcterms:modified>
  <cp:revision>1</cp:revision>
  <dc:subject/>
  <dc:title>PowerPoint-presentatie</dc:title>
</cp:coreProperties>
</file>