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305-4FC0-4FC3-BBDC-7C686AE0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7019-57E1-4417-84CC-F3F8895E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8D49-56AD-46DA-AEA9-2A9A225A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7F8-12A5-4413-BF8E-A91D5ECE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84B-42D2-4BB0-8E99-C82A72D1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EFCF-9D97-4F55-A298-624365EC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C06-9C83-4102-8A00-7B304F2A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7C5F-5408-4680-8FF2-A1C8E642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DB8B-9612-455F-BF89-742BD8AE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901F-9AB9-43D7-8458-52B67908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C549-01FA-4748-99CA-76BA4103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E1C-4FB0-402F-8568-EF7E5551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9D2E-9F66-42C9-94FF-92A56FCF93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360" y="533520"/>
            <a:ext cx="617220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[4]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6248520"/>
          <a:ext cx="2666880" cy="13777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2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well, 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 in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ch bu receives from the IT-manager a report on the status of it's projects an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9-02-17T11:22:03Z</dcterms:modified>
  <cp:revision>327</cp:revision>
  <dc:subject/>
  <dc:title>Spelregels IT-governance game</dc:title>
</cp:coreProperties>
</file>