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4445-8316-406E-980D-613932C65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2B75-30D6-4F4C-8260-C6DF4336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0B0B-4E92-4F7D-AEAB-D2694C9C9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3A4B-CEAC-48E1-812B-8AE41034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1A9E-388F-4D56-9E56-6D91E6DA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7E8E-9677-4F27-930A-957A81F5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7A12-88B3-4238-96AB-ABC6A98E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4CCC-2131-4B1D-A4DD-F76CD679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E04B-0C8D-40C5-A46F-F1274CB4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E97A-5730-4372-AB8F-351278FB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BF8C-236D-4A66-B372-FFC191FF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86F6-8448-4086-BACE-48B2A37A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90FE-2D96-45F4-878F-42BB5355E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808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to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907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art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13716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8672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aint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990720"/>
            <a:ext cx="2743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jec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e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of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nticip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new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004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58672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ay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808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99072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160020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d simultane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5943600"/>
            <a:ext cx="457200" cy="4572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808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58672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3:37Z</dcterms:created>
  <dc:creator>jj</dc:creator>
  <dc:description/>
  <dc:language>en-US</dc:language>
  <cp:lastModifiedBy>jj</cp:lastModifiedBy>
  <dcterms:modified xsi:type="dcterms:W3CDTF">2009-07-10T08:13:55Z</dcterms:modified>
  <cp:revision>1</cp:revision>
  <dc:subject/>
  <dc:title>PowerPoint-presentatie</dc:title>
</cp:coreProperties>
</file>