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710363" cy="98345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0689-E097-4AE7-A594-0767415D8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7224-F0DA-4090-A17F-6170A1096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A50D-3C8A-4EEE-AAC5-D6A1196BE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6514-77AF-4730-8FBB-E597F43DE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3C0D-13D8-46C2-8440-2994D062D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81AA-7F9D-4719-962C-A5814B48A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C77D-70B7-41B1-9561-220D8BBEB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2BD3-E69E-4BC5-9862-ECA09C8AC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0D6A-52AC-43DA-B633-ABB8B3F9B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1CB9-5D52-4C34-99A1-514BF4D9B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E2B5-B0D3-4589-ABEB-6DCFD6181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7659-7823-4128-84CA-C765697A5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8D8FD-8376-440D-9B17-7FE3003F3C4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4360" y="533520"/>
            <a:ext cx="6172200" cy="84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yers are divided into 3 [4]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eam represents a business unit (b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u's together form one organ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ame is played in rounds (fiscal years) consisting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ximately 10 min playing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ard of directors has decided to gain as much market share as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that end each of the bu's has for target to maximise it's individual market sh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each fiscal year the bu with the largest market share wears the </a:t>
            </a: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orange ja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ner of the game is the bu with the largest market share by the end of the g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u can gain market share in a market segment by building an IT-system for that mar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 in either of 3 sp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n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en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ticipative (under architec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s of the g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market segment generates a turn over of 6 shared among the bu's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first mover principle) the earlier a bu is present in a market segment the larger it's market sh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under archite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wers maintenance co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kes more t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T-governance game is a game of balance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betw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peed (market sha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rchitecture (maintenance cos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63600" y="152280"/>
            <a:ext cx="6286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T-governance game ru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533520" y="6248520"/>
          <a:ext cx="2666880" cy="1377720"/>
        </p:xfrm>
        <a:graphic>
          <a:graphicData uri="http://schemas.openxmlformats.org/drawingml/2006/table">
            <a:tbl>
              <a:tblPr/>
              <a:tblGrid>
                <a:gridCol w="701640"/>
                <a:gridCol w="701640"/>
                <a:gridCol w="425520"/>
                <a:gridCol w="457200"/>
                <a:gridCol w="380880"/>
              </a:tblGrid>
              <a:tr h="272520"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sh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32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2858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bu'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19040" y="533520"/>
            <a:ext cx="6438960" cy="84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rting 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u can start one or more IT projects by asking the IT-manager to do so on it's beha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hree kinds of IT projec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ild a new system for a market segment in which the bu is not yet present, the bu can choose one from three speeds availabl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fensive (3 phase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fensive (4 phase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ticipative (5 phases, under architectur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grate an existing system under architecture to reduce maintenance costs (2 phas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new an existing system to begin a new life cycle (2 phas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ecutin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ch fiscal year a bu can execute per project up to 3 ph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invmestent depends on the type of project and the number of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es execu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ee the price list of the IT-manag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jects can be put on hold (ie temporarily not execu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 extra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ase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s needed to complete the proj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f the project needs as many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ases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o complete as originally the project is killed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uring the next evalu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aining 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system on the market board has to be mainta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wise the system will be removed from the market board during the next 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5 fiscal years a system reaches it's end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at case besides maintenance a renewal project has to be delivered for that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well, again otherwise the system will be removed from the market board during the next 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ch fiscal year is followed by an evaluation in wh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ach bu receives from the IT-manager a report on the status of it's projects and appl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bank pays the bu's their turn o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000" spc="-1" strike="noStrike">
                <a:solidFill>
                  <a:srgbClr val="ff6600"/>
                </a:solidFill>
                <a:latin typeface="Arial"/>
              </a:rPr>
              <a:t>orange jacke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handed over to the leading b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e IT-manager announces the maintenance costs for the next fiscal ye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600" y="152280"/>
            <a:ext cx="6286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T-governance game ru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1T09:06:22Z</dcterms:created>
  <dc:creator>x</dc:creator>
  <dc:description/>
  <dc:language>en-US</dc:language>
  <cp:lastModifiedBy>x</cp:lastModifiedBy>
  <dcterms:modified xsi:type="dcterms:W3CDTF">2009-02-17T11:22:03Z</dcterms:modified>
  <cp:revision>327</cp:revision>
  <dc:subject/>
  <dc:title>Spelregels IT-governance game</dc:title>
</cp:coreProperties>
</file>