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9003-C88D-4CB3-BE53-8C5079D3D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9377-E0B1-4F27-B1D2-05BEB200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42F0-FA34-4702-8A6B-7303B760F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FE16-5F01-4CD2-9F96-E866521E8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C19D-4C2C-4604-9C77-79310736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DADF-9097-463E-A72D-CE963107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A120-9DE1-4E03-A6BF-70C49769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4459-CB53-4443-B921-991798CE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A337-42A6-4672-BA91-42510B05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4676-17CF-4D05-9AC4-832430EA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BE02-9779-446D-9D3C-62E7451B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1AB4-EA74-4C45-A7BE-5F942544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7A5A-32BC-415C-A0ED-9ECC87E35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808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to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907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start 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600200"/>
            <a:ext cx="137160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ecute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58672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maint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990720"/>
            <a:ext cx="27432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16002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jec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defen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34290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offen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40384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anticip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46483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52578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renew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16002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#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004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00400" y="34290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40384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46483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52578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5867280"/>
            <a:ext cx="4114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day 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80880"/>
            <a:ext cx="4114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990720"/>
            <a:ext cx="4114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1600200"/>
            <a:ext cx="4114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#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ecuted simultaneous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436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152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72400" y="5943600"/>
            <a:ext cx="457200" cy="4572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80880"/>
            <a:ext cx="27432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5867280"/>
            <a:ext cx="27432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08:13:37Z</dcterms:created>
  <dc:creator>jj</dc:creator>
  <dc:description/>
  <dc:language>en-US</dc:language>
  <cp:lastModifiedBy>jj</cp:lastModifiedBy>
  <dcterms:modified xsi:type="dcterms:W3CDTF">2009-07-10T08:13:55Z</dcterms:modified>
  <cp:revision>1</cp:revision>
  <dc:subject/>
  <dc:title>PowerPoint-presentatie</dc:title>
</cp:coreProperties>
</file>