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BB1-AF0B-4C62-8361-D239EB9E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AE4-BF4D-4B43-A557-BB009EC2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F84-BA2B-45B2-93C2-6B292287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2A6-18B7-4546-98E7-0771FA15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E65-D390-41A0-B000-DF0A152B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645-DBF9-46DE-AFA7-2D4DED66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BD6-CCFE-4983-AB32-DB0D6C17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994-7B3E-4195-A413-442190D4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C8A-307F-4DBB-83E1-089C8483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8E2-AE0A-404A-98FE-DA0073A6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C11-CD5B-4234-AAE7-5C5DFA8F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2ED-F3A5-4FDA-82A3-84018558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2A9D-07C5-484F-88BD-064C97317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-governanc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 jun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geschool d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-governance is the most critical succes factor for it-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-governance game makes players experienc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it-governance (according to gartner): who deci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explain the most necessary elements of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game details will become clear using the hand out with the rules of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yers are divided into 3 (or 4)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eam represents a business unit (b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u's together form one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me consists of 2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the 2 phases there will be a br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phases are played in rounds (fiscal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scal year consists of 2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step of approximately 10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ard of directors has decided to gain as much market share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at end each of the bu's has for target to maximise it's individual market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each fiscal year the team with the largest market share wears the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range j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ner of the game is the team with the largest market share by the end of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ining market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 can gain market share in a market segment by building an IT-system for that market segment in either of 3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ticipative (under architec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arket segment generates a turn over of 100 shared among the bu's present, distributed according to the follow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s of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irst mover principle) the faster a bu is present in a market segment the larger it's market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market segments a bu has penetrated the larger it's market shares be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under architecture takes mor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enance costs rise when systems are not built und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09:39:38Z</dcterms:created>
  <dc:creator>x</dc:creator>
  <dc:description/>
  <dc:language>en-US</dc:language>
  <cp:lastModifiedBy>x</cp:lastModifiedBy>
  <dcterms:modified xsi:type="dcterms:W3CDTF">2007-06-20T23:19:27Z</dcterms:modified>
  <cp:revision>21</cp:revision>
  <dc:subject/>
  <dc:title>it-governance game</dc:title>
</cp:coreProperties>
</file>