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A90-7788-4957-B9B9-DA5E9533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006-2838-4A2A-8D90-CC4EB39C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776-67C0-4C6A-A41B-57A27AF0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AEA-7097-4ACC-9CA3-2F4814B6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533-E37E-473B-8CDD-909FC195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756-D644-4A3A-8956-306F2348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131-A63E-4539-8BB3-F13AFE80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38D-1B16-46EA-914A-3D7CEB83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D3E-25E9-4EA6-A19F-0949A97E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901-3558-43D7-ADAD-6077C2A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6D3-52A8-4F18-BA4B-30152432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104-177C-4916-85D2-B1CAD3D8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98B8-D346-403F-BF07-A865253403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ystems (i.e. pawns) on the market board move one space to the right while paying maintenance costs. maintenance costs are calculat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 costs for each system itself: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 maintenance costs for the interfaces with other sy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qusre of the number of all systems (irrespective of their owners) at the top ends of the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aintenance is payed for a system this system will be removed from the market board during the next administrativ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’s can start one or more IT projects.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to reduce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ystem is at the end of it’s lifecycle it will be removed from the market board during the next administrative break if not ren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start no more than 2 (or 3) projects in each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only 5 (or 6)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's start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cing a pawn in the building r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cing a yield chip up side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uild: in one of the defensive, offensive or anticipative ro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newal or migration: in the  ‘renewal‘ resp 'migration' r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685800"/>
            <a:ext cx="651492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d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no funds are paid for a project, the pawn will move up on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that move up above the ‘build’ row will be can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ype of project determines the number of steps to complete a project and it's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funds are paid for a project, the pawn will move down (i.e. towards the target) 1, 2 or 3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(as a whole) can complete no more than 8 (or 10) steps during a fiscal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n a project is fin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d: the pawn is moved from the building board to the market board on the green column of the market segment for which the system was bui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fensive or offensiv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at the top end of the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: at the bottom end of the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al: the pawn is moved to the green column of it’s market seg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ion: the pawn is moved from the top end to the bottom end of the market seg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 to be the first entrant to a market segment receives a ‘first mover’ bonus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3557520"/>
          <a:ext cx="4572000" cy="1014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 of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s for this fiscal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143000" y="1652760"/>
          <a:ext cx="4572000" cy="1457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 per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7-06-20T21:30:59Z</dcterms:modified>
  <cp:revision>121</cp:revision>
  <dc:subject/>
  <dc:title>Spelregels IT-governance game</dc:title>
</cp:coreProperties>
</file>