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36C-EAD8-4B87-BAC2-0A961A53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7FA-37BF-4E19-AEB8-D0F74969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E2E5-786B-4239-A22A-61690809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637-A9EF-4C90-85B8-ED6B9361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0EA-C953-421C-9EF3-DFF646E1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44BE-9098-4A6D-8534-8FC9D9B0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EB7-A5AC-43DE-AA35-E7DF3B2A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401-1A49-4BE0-A91C-41BABD31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F46-1883-41BA-9801-67EF627F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24C-5278-4680-8409-A3ECAADF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F82-E0F6-4ED8-9E5F-7047B8C5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BF1-52C1-4BEB-B759-B5D2360D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4731-4429-45E5-A94E-A5484F8AA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)evolutiekaar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rvb heeft per onmiddelijk geld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van uw projecten dient gekilled te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)evolutiekaar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organisatie trekt zich terug op haar core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k u terug uit 1 mar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)evolutiekaar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tswijziging ingaande over 2 ron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w systemen dienen zich in levensfase 1 te bevi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2:37:31Z</dcterms:created>
  <dc:creator>x</dc:creator>
  <dc:description/>
  <dc:language>en-US</dc:language>
  <cp:lastModifiedBy>x</cp:lastModifiedBy>
  <dcterms:modified xsi:type="dcterms:W3CDTF">2006-09-10T12:37:49Z</dcterms:modified>
  <cp:revision>1</cp:revision>
  <dc:subject/>
  <dc:title>(r)evolutiekaart 1</dc:title>
</cp:coreProperties>
</file>